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1CAB-7082-4508-B30B-14A76C2676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2BB6-BB35-41CD-852F-D2B328D22E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7400" y="70164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A30E-1FF3-46C5-9C8E-A906ACA0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520" y="382068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2A3A-F858-4703-ADAE-858A9029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16200" y="16761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520" y="38206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16200" y="38206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198-385E-41B4-A1B4-E812625B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1520" y="16761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89160" y="16761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520" y="38206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1520" y="38206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89160" y="38206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D57-0654-4345-BD94-30DF7B86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5148-7D74-47A6-8767-91441ABE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533-893E-48A6-AD01-40F26CA6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7926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6200" y="1676160"/>
            <a:ext cx="37926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D72E-BB15-4873-8D39-CECF0E99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5369-68DB-4CF3-9E24-320560E0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489B-A3A1-4224-B9E1-A366B6EB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6200" y="1676160"/>
            <a:ext cx="37926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8206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5017-4413-4F46-AD21-DA0063A0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7926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16200" y="16761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16200" y="38206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3D2-B011-4E1C-876E-5F6FC6A6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16200" y="16761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82068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81F4-2C6F-4736-A4E4-88F36D05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31400" cy="6845400"/>
              <a:chOff x="0" y="0"/>
              <a:chExt cx="9131400" cy="68454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31400" cy="684540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0"/>
                <a:ext cx="8610480" cy="632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" name=""/>
            <p:cNvSpPr/>
            <p:nvPr/>
          </p:nvSpPr>
          <p:spPr>
            <a:xfrm>
              <a:off x="457200" y="1295280"/>
              <a:ext cx="8669160" cy="88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FE95935-0504-4503-8D5E-05B4D40B2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533520" y="16761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4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uva-logo" descr=""/>
          <p:cNvPicPr/>
          <p:nvPr/>
        </p:nvPicPr>
        <p:blipFill>
          <a:blip r:embed="rId3"/>
          <a:stretch/>
        </p:blipFill>
        <p:spPr>
          <a:xfrm flipH="1" rot="10800000">
            <a:off x="6858000" y="380520"/>
            <a:ext cx="163044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ments f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ology Spec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us Schre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, University of Amsterd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al expressivity (2 of 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/subclass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itive vs. defined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/partial, disjoint/overlapping sub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basic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/export of an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aming ontological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ing ontological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py class/instance disti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-level attributes/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FF0-A55D-4D87-95F6-DF047319CBA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ority list for expressiv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tive capability: “limit to first-order logic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al content: “as much as (pragmatically) possib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priority list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“maximal-content” represent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sub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ified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/export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ppy class/instance dis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cond-order) constraint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D7F9-59D3-4EAE-AFE6-3F94339F4C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DF / RDF Schema an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ology spec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constr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sub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ppy class-instance disti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set of data types (from XML Sche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b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fied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a statement be a resource? At best it is awk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ion (“bag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form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043-1640-42BE-BED4-CD4010C7B72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RDF / RDF Sche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do not want to read or write 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need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al representation (partia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L-type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ipul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Protege-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incing exampl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s and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8AD3-FE1D-4058-A70E-DAE9A89BF7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t &amp; Architecture Thesaur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grasp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6248160" cy="4469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0160" y="2362320"/>
            <a:ext cx="14338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len a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4585-7CD0-4450-A7AC-833D33CD8FB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AT ont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7440" y="1523880"/>
            <a:ext cx="1049400" cy="524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5240" y="1617840"/>
            <a:ext cx="93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descrip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66080" y="1785960"/>
            <a:ext cx="71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univer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7440" y="2562120"/>
            <a:ext cx="1049400" cy="525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05240" y="2657520"/>
            <a:ext cx="93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descrip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800" y="2824200"/>
            <a:ext cx="86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dimen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7440" y="3684600"/>
            <a:ext cx="1049400" cy="525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41240" y="3863880"/>
            <a:ext cx="84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descrip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276720"/>
            <a:ext cx="1049400" cy="523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77680" y="3454560"/>
            <a:ext cx="743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value 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7440" y="5614920"/>
            <a:ext cx="1049400" cy="523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579276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val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36840" y="4713120"/>
            <a:ext cx="1049400" cy="524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90640" y="4807080"/>
            <a:ext cx="84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descrip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14840" y="49752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val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89840" y="1523880"/>
            <a:ext cx="1049040" cy="524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73960" y="1701720"/>
            <a:ext cx="51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ob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280" y="2992320"/>
            <a:ext cx="1047600" cy="525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6720" y="3170160"/>
            <a:ext cx="91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object ty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89840" y="2992320"/>
            <a:ext cx="1049040" cy="525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84240" y="3170160"/>
            <a:ext cx="95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object cla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3040" y="5762520"/>
            <a:ext cx="1049400" cy="5241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46880" y="5856120"/>
            <a:ext cx="399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cla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02880" y="6024600"/>
            <a:ext cx="854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constrai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3040" y="2048040"/>
            <a:ext cx="1440" cy="51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49680" y="2048040"/>
            <a:ext cx="125280" cy="252360"/>
          </a:xfrm>
          <a:custGeom>
            <a:avLst/>
            <a:gdLst/>
            <a:ahLst/>
            <a:rect l="l" t="t" r="r" b="b"/>
            <a:pathLst>
              <a:path w="79" h="159">
                <a:moveTo>
                  <a:pt x="40" y="0"/>
                </a:moveTo>
                <a:lnTo>
                  <a:pt x="79" y="80"/>
                </a:lnTo>
                <a:lnTo>
                  <a:pt x="40" y="159"/>
                </a:lnTo>
                <a:lnTo>
                  <a:pt x="0" y="80"/>
                </a:lnTo>
                <a:lnTo>
                  <a:pt x="4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813040" y="3087720"/>
            <a:ext cx="1440" cy="59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81360" y="3087720"/>
            <a:ext cx="61920" cy="104760"/>
          </a:xfrm>
          <a:custGeom>
            <a:avLst/>
            <a:gdLst/>
            <a:ahLst/>
            <a:rect l="l" t="t" r="r" b="b"/>
            <a:pathLst>
              <a:path w="39" h="66">
                <a:moveTo>
                  <a:pt x="39" y="66"/>
                </a:moveTo>
                <a:lnTo>
                  <a:pt x="20" y="0"/>
                </a:lnTo>
                <a:lnTo>
                  <a:pt x="0" y="66"/>
                </a:lnTo>
                <a:lnTo>
                  <a:pt x="39" y="6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58880" y="3736800"/>
            <a:ext cx="628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3040" y="4210200"/>
            <a:ext cx="1440" cy="140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12680" y="4975200"/>
            <a:ext cx="523800" cy="1440"/>
          </a:xfrm>
          <a:prstGeom prst="line">
            <a:avLst/>
          </a:prstGeom>
          <a:ln w="11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36840" y="3463920"/>
            <a:ext cx="703440" cy="272880"/>
          </a:xfrm>
          <a:custGeom>
            <a:avLst/>
            <a:gdLst/>
            <a:ahLst/>
            <a:rect l="l" t="t" r="r" b="b"/>
            <a:pathLst>
              <a:path w="443" h="172">
                <a:moveTo>
                  <a:pt x="0" y="172"/>
                </a:moveTo>
                <a:lnTo>
                  <a:pt x="218" y="172"/>
                </a:lnTo>
                <a:lnTo>
                  <a:pt x="218" y="0"/>
                </a:lnTo>
                <a:lnTo>
                  <a:pt x="44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36840" y="3705120"/>
            <a:ext cx="104760" cy="63720"/>
          </a:xfrm>
          <a:custGeom>
            <a:avLst/>
            <a:gdLst/>
            <a:ahLst/>
            <a:rect l="l" t="t" r="r" b="b"/>
            <a:pathLst>
              <a:path w="66" h="40">
                <a:moveTo>
                  <a:pt x="66" y="0"/>
                </a:moveTo>
                <a:lnTo>
                  <a:pt x="0" y="20"/>
                </a:lnTo>
                <a:lnTo>
                  <a:pt x="66" y="40"/>
                </a:lnTo>
                <a:lnTo>
                  <a:pt x="66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87880" y="325440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87880" y="3222720"/>
            <a:ext cx="106560" cy="63360"/>
          </a:xfrm>
          <a:custGeom>
            <a:avLst/>
            <a:gdLst/>
            <a:ahLst/>
            <a:rect l="l" t="t" r="r" b="b"/>
            <a:pathLst>
              <a:path w="67" h="40">
                <a:moveTo>
                  <a:pt x="67" y="0"/>
                </a:moveTo>
                <a:lnTo>
                  <a:pt x="0" y="20"/>
                </a:lnTo>
                <a:lnTo>
                  <a:pt x="67" y="40"/>
                </a:lnTo>
                <a:lnTo>
                  <a:pt x="67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64080" y="1785960"/>
            <a:ext cx="1625760" cy="1206360"/>
          </a:xfrm>
          <a:custGeom>
            <a:avLst/>
            <a:gdLst/>
            <a:ahLst/>
            <a:rect l="l" t="t" r="r" b="b"/>
            <a:pathLst>
              <a:path w="1024" h="760">
                <a:moveTo>
                  <a:pt x="0" y="760"/>
                </a:moveTo>
                <a:lnTo>
                  <a:pt x="0" y="0"/>
                </a:lnTo>
                <a:lnTo>
                  <a:pt x="102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32400" y="2887560"/>
            <a:ext cx="63360" cy="104760"/>
          </a:xfrm>
          <a:custGeom>
            <a:avLst/>
            <a:gdLst/>
            <a:ahLst/>
            <a:rect l="l" t="t" r="r" b="b"/>
            <a:pathLst>
              <a:path w="40" h="66">
                <a:moveTo>
                  <a:pt x="0" y="0"/>
                </a:moveTo>
                <a:lnTo>
                  <a:pt x="20" y="66"/>
                </a:lnTo>
                <a:lnTo>
                  <a:pt x="4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10080" y="5068800"/>
            <a:ext cx="883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has fea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78640" y="3517920"/>
            <a:ext cx="1440" cy="155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46960" y="4964040"/>
            <a:ext cx="63360" cy="104760"/>
          </a:xfrm>
          <a:custGeom>
            <a:avLst/>
            <a:gdLst/>
            <a:ahLst/>
            <a:rect l="l" t="t" r="r" b="b"/>
            <a:pathLst>
              <a:path w="40" h="66">
                <a:moveTo>
                  <a:pt x="0" y="0"/>
                </a:moveTo>
                <a:lnTo>
                  <a:pt x="20" y="66"/>
                </a:lnTo>
                <a:lnTo>
                  <a:pt x="4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385880" y="5153040"/>
            <a:ext cx="184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86240" y="5122800"/>
            <a:ext cx="104760" cy="61920"/>
          </a:xfrm>
          <a:custGeom>
            <a:avLst/>
            <a:gdLst/>
            <a:ahLst/>
            <a:rect l="l" t="t" r="r" b="b"/>
            <a:pathLst>
              <a:path w="66" h="39">
                <a:moveTo>
                  <a:pt x="66" y="0"/>
                </a:moveTo>
                <a:lnTo>
                  <a:pt x="0" y="19"/>
                </a:lnTo>
                <a:lnTo>
                  <a:pt x="66" y="39"/>
                </a:lnTo>
                <a:lnTo>
                  <a:pt x="66" y="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578640" y="5236920"/>
            <a:ext cx="1440" cy="525240"/>
          </a:xfrm>
          <a:prstGeom prst="line">
            <a:avLst/>
          </a:prstGeom>
          <a:ln w="11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240" y="3886200"/>
            <a:ext cx="79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descrip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4114800"/>
            <a:ext cx="102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value 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24240" y="3276720"/>
            <a:ext cx="78732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99480" y="3276720"/>
            <a:ext cx="100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in dimen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73960" y="1881360"/>
            <a:ext cx="84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instance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53280" y="2992320"/>
            <a:ext cx="57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class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080" y="3780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h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22680" y="3946680"/>
            <a:ext cx="79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descrip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7040" y="3349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1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64480" y="18813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1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5400" y="34750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1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5400" y="23940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1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94440" y="37688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1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27720" y="48816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"/>
              </a:rPr>
              <a:t>1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D666-94EB-427E-8D3E-8C7B6F5D940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ument fragment ontologie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ructio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14400" y="1523880"/>
          <a:ext cx="3735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3735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48320" y="1828800"/>
          <a:ext cx="3781440" cy="382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828800"/>
                    <a:ext cx="378144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0742-93E3-40AD-852D-7B3C463277E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main ontology of a traffic light control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2621160" cy="348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3809880" y="1600200"/>
          <a:ext cx="4581720" cy="468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1600200"/>
                    <a:ext cx="458172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10B-7846-4EF7-A7DE-D1BDD07F4E1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ontologies of document frag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267080" y="2362320"/>
          <a:ext cx="4343400" cy="34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362320"/>
                    <a:ext cx="43434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57200" y="2362320"/>
          <a:ext cx="3581280" cy="19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362320"/>
                    <a:ext cx="3581280" cy="19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3C0D-0BE6-4D25-9707-DA11B0384C7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15200" cy="48528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ology for e-commer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8E55-2C91-4BEF-9227-361BF826920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levels of express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ies and web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pe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CAD-B46D-4BBC-BBB3-BA794F2ABDA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-level categorie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different propos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laatje" descr=""/>
          <p:cNvPicPr/>
          <p:nvPr/>
        </p:nvPicPr>
        <p:blipFill>
          <a:blip r:embed="rId1"/>
          <a:stretch/>
        </p:blipFill>
        <p:spPr>
          <a:xfrm>
            <a:off x="0" y="1447920"/>
            <a:ext cx="8381880" cy="3930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3280" y="571500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drasekaran et al. (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75BC-E44C-4D7E-9D89-4B5ACBCB785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otion of ont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 specification of a shared conceptualization that holds in a particular context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ral auth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s a viewpoint an a domai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onomies of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, functional, &amp; behavioral system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perspective: instruction,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AADC-0E64-41C1-8B2E-2D697A4F0C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ology should allow for “representational promiscuity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600200"/>
            <a:ext cx="2369880" cy="1131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74560" y="1679400"/>
            <a:ext cx="965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"/>
              </a:rPr>
              <a:t>ontolog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4680" y="2158920"/>
            <a:ext cx="1081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parame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3960" y="2371680"/>
            <a:ext cx="2266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constraint -express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0520" y="3728880"/>
            <a:ext cx="2328840" cy="1836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17560" y="2732040"/>
            <a:ext cx="1800" cy="996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7960" y="3597120"/>
            <a:ext cx="81000" cy="131760"/>
          </a:xfrm>
          <a:custGeom>
            <a:avLst/>
            <a:gdLst/>
            <a:ahLst/>
            <a:rect l="l" t="t" r="r" b="b"/>
            <a:pathLst>
              <a:path w="51" h="83">
                <a:moveTo>
                  <a:pt x="0" y="0"/>
                </a:moveTo>
                <a:lnTo>
                  <a:pt x="25" y="83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10880" y="3916440"/>
            <a:ext cx="1959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"/>
              </a:rPr>
              <a:t>knowledge base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1160" y="4419720"/>
            <a:ext cx="2707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cab.weight + safety.weigh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3840" y="4648320"/>
            <a:ext cx="1531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= car.weigh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8240" y="5105520"/>
            <a:ext cx="183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cab.weight &lt; 500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67120" y="3689280"/>
            <a:ext cx="3767400" cy="2276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03400" y="2158920"/>
            <a:ext cx="959040" cy="2489400"/>
          </a:xfrm>
          <a:custGeom>
            <a:avLst/>
            <a:gdLst/>
            <a:ahLst/>
            <a:rect l="l" t="t" r="r" b="b"/>
            <a:pathLst>
              <a:path w="604" h="1568">
                <a:moveTo>
                  <a:pt x="0" y="0"/>
                </a:moveTo>
                <a:lnTo>
                  <a:pt x="604" y="0"/>
                </a:lnTo>
                <a:lnTo>
                  <a:pt x="604" y="1568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21040" y="4514760"/>
            <a:ext cx="81000" cy="133560"/>
          </a:xfrm>
          <a:custGeom>
            <a:avLst/>
            <a:gdLst/>
            <a:ahLst/>
            <a:rect l="l" t="t" r="r" b="b"/>
            <a:pathLst>
              <a:path w="51" h="84">
                <a:moveTo>
                  <a:pt x="0" y="0"/>
                </a:moveTo>
                <a:lnTo>
                  <a:pt x="26" y="84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89360" y="4648320"/>
            <a:ext cx="18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33920" y="4608360"/>
            <a:ext cx="133200" cy="79560"/>
          </a:xfrm>
          <a:custGeom>
            <a:avLst/>
            <a:gdLst/>
            <a:ahLst/>
            <a:rect l="l" t="t" r="r" b="b"/>
            <a:pathLst>
              <a:path w="84" h="50">
                <a:moveTo>
                  <a:pt x="0" y="50"/>
                </a:moveTo>
                <a:lnTo>
                  <a:pt x="84" y="25"/>
                </a:lnTo>
                <a:lnTo>
                  <a:pt x="0" y="0"/>
                </a:lnTo>
                <a:lnTo>
                  <a:pt x="0" y="5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33240" y="3795840"/>
            <a:ext cx="1954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"/>
              </a:rPr>
              <a:t>knowledge base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7200" y="4156200"/>
            <a:ext cx="2321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parameter(cab.weigh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0720" y="4368960"/>
            <a:ext cx="2573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parameter(safety.weigh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7920" y="4581360"/>
            <a:ext cx="2279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parameter(car.weigh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80240" y="4794120"/>
            <a:ext cx="2275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constraint-expression(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25520" y="5006880"/>
            <a:ext cx="3384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           </a:t>
            </a: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cab.weight + safety.weight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71240" y="5219640"/>
            <a:ext cx="19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           </a:t>
            </a: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= car.weigh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80240" y="5433840"/>
            <a:ext cx="2275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constraint-expression(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64760" y="5646600"/>
            <a:ext cx="2346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          </a:t>
            </a:r>
            <a:r>
              <a:rPr b="0" lang="en-US" sz="1700" spc="-1" strike="noStrike">
                <a:solidFill>
                  <a:srgbClr val="000000"/>
                </a:solidFill>
                <a:latin typeface=""/>
              </a:rPr>
              <a:t>cab.weight &lt; 500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68520" y="4635360"/>
            <a:ext cx="8654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01640" y="4635360"/>
            <a:ext cx="1145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"/>
              </a:rPr>
              <a:t>rewritten a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400" y="3090960"/>
            <a:ext cx="922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"/>
              </a:rPr>
              <a:t>viewpoi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88600" y="2824200"/>
            <a:ext cx="1395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"/>
              </a:rPr>
              <a:t>mapping ru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153-7B2C-4908-9CBA-EECBE44DCCE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ology ty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-specif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cine  =&gt; cardiology =&gt; rhythm disor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traffic light contro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generaliz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s, organ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-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 design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instru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generaliz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solving, e.g. UP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 ont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“Top-level categori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s and dimen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7A62-CFA5-4A57-8A85-1E403BD463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ontolog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ies needed for an application are typically a mix of several ontology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terminology: traffic ligh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 structure and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al 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E-comme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s ne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/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FF2-8938-4436-8FBD-0A8D3C6B5B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main standards and vocabularies as ontolog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Art and Architecture Thesaurus (A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 ontologic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T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structure of th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ology needs to be “extract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made available as an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help of some mapping form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s of domain terms are sometimes also called “ontologi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es a weaker notion of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pe typically much broader than a specific applic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domain  glossaries, Word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 some meta information: hyponyms, synonyms,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FD7B-4113-410E-89C6-131FFAF8BC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ology spec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differen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olin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(conce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lass with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 (sl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8484-831B-4B32-896E-906F5DCDD07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al expressivity (1 of 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sub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-in part-whol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-attribute disti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” is a relation/slot that points to a data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ing relations as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ified relations (e.g., UML “association clas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-ord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-order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quirements for Ontology Specific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AEE1-8D83-4F7F-9914-F767D2F0019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gstuhl semin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22:02:02Z</dcterms:created>
  <dc:creator>Guus Schreiber</dc:creator>
  <dc:description/>
  <dc:language>en-US</dc:language>
  <cp:lastModifiedBy>Stanford Database Group</cp:lastModifiedBy>
  <dcterms:modified xsi:type="dcterms:W3CDTF">2000-03-20T15:38:45Z</dcterms:modified>
  <cp:revision>20</cp:revision>
  <dc:subject/>
  <dc:title>Requirements for  ontology specification</dc:title>
</cp:coreProperties>
</file>